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C7C-D36F-4067-BBD9-43274DFF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52F-58D1-4994-9429-43C3D220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A31-9AFD-438F-BB71-E293BB8E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0E1-3E47-4805-8E12-12B9599B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D76-1752-45E1-9BB8-28C3B315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4E6D-7E40-4453-8E32-5441AA7C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7792-9BA0-4F78-A3C9-98BC048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8455-337F-41E7-9C4C-A6074AE3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CD2C-9160-4BEA-84D3-0891C559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A698-49B7-4BC7-AD0B-57866925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0015-7CD4-4691-BB1F-11C432F1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F59-85E2-4A0C-A610-0ACDDD60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C37E-F617-4D1D-BD67-44BF2246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DB88-50E0-443D-894E-9FAD1D34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5532-0464-4435-9872-FD6C7E8A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250D-CA95-43DF-A8CB-8D9220DC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BEFE-A147-4831-BBAF-E9A775A4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D10-586D-4BE9-B783-8342CBB7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E6A-D44A-441F-930D-F2D30F6D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D1B-9857-4211-99FA-129E3212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01B-2441-49C0-BCE5-C54FA1D2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048-A736-4AD8-BB6C-67E2E3BC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57C-7C86-49E5-B336-0F5C20FA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1FC-EC18-41EF-8CC0-52DBBCA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908E-262A-4DE9-A64F-594C9C5ECD72}" type="datetime">
              <a:rPr b="0" lang="it-IT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271560"/>
            <a:ext cx="2895840" cy="5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800" spc="-1" strike="noStrike">
                <a:solidFill>
                  <a:srgbClr val="ff99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2A9B-A04F-4F79-BC5C-0543A6A34B57}" type="slidenum">
              <a:rPr b="1" lang="it-IT" sz="2800" spc="-1" strike="noStrike">
                <a:solidFill>
                  <a:srgbClr val="ff9900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A8E4-957D-4DA4-8C92-5EBB8B017873}" type="datetime">
              <a:rPr b="0" lang="it-IT" sz="1200" spc="-1" strike="noStrike">
                <a:solidFill>
                  <a:srgbClr val="ffffff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411600"/>
            <a:ext cx="289584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C6DB-5364-4D4B-B31B-FF16D3BCED04}" type="slidenum">
              <a:rPr b="1" lang="it-IT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pertina%20eng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8120" y="1339920"/>
            <a:ext cx="53337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969696"/>
                </a:solidFill>
                <a:latin typeface="Arial Narrow"/>
              </a:rPr>
              <a:t>Produktion von Qualit</a:t>
            </a:r>
            <a:r>
              <a:rPr b="1" lang="it-IT" sz="1100" spc="-1" strike="noStrike">
                <a:solidFill>
                  <a:srgbClr val="969696"/>
                </a:solidFill>
                <a:latin typeface="Arial Narrow"/>
                <a:ea typeface="Times New Roman"/>
              </a:rPr>
              <a:t>ätsweinen im Respekt der Umwelt, mit der Aufwertung des Territorium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ist auch…..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Umweltschut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uf Donnafugata erachtet man die Qualität der Umwelt als einen Produktionsfaktor mit demselben Stellenwert wie viele andere: Boden, Klima, Rebsorte, Anbautechniken</a:t>
            </a:r>
            <a:r>
              <a:rPr b="0" lang="it-IT" sz="3200" spc="-1" strike="noStrike">
                <a:solidFill>
                  <a:srgbClr val="ffffff"/>
                </a:solidFill>
                <a:latin typeface="Arial Unicode MS"/>
                <a:ea typeface="Tahoma"/>
              </a:rPr>
              <a:t>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ist…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Saubere Energ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335268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Donnafugata </a:t>
            </a:r>
            <a:r>
              <a:rPr b="1" lang="de-DE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war eines der ersten Weingüter Italiens, auf dem Fotoelektrizität zur Energiegewinnung eingesetzt und die Sonneneinstrahlung als saubere und erneuerbare Quelle genutzt wurd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Die installierten Solarkollektoren (18 kW) decken mehr als 30% des Energiebedarfs der Kellerei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… 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und die Kunden geben ihr Geld lieber aus, wenn das Unternehmen ihre Werte teilt 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annelliFotovoltaici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Arial"/>
              </a:rPr>
              <a:t>Donnafugata Weinberge und Kellerei</a:t>
            </a:r>
            <a:br>
              <a:rPr sz="3600"/>
            </a:br>
            <a:r>
              <a:rPr b="0" lang="it-IT" sz="4000" spc="-1" strike="noStrike">
                <a:solidFill>
                  <a:srgbClr val="ffffff"/>
                </a:solidFill>
                <a:latin typeface="Arial Unicode MS"/>
                <a:ea typeface="Arial"/>
              </a:rPr>
              <a:t>Pantelleri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556236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Unicode MS"/>
                <a:ea typeface="Arial"/>
              </a:rPr>
              <a:t>Insel der Sonne und des Windes zwischen Sizilien und Af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C03_JoseGabri_Shobha_LR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03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3733920"/>
          <a:ext cx="9144000" cy="3124080"/>
        </p:xfrm>
        <a:graphic>
          <a:graphicData uri="http://schemas.openxmlformats.org/drawingml/2006/table">
            <a:tbl>
              <a:tblPr/>
              <a:tblGrid>
                <a:gridCol w="4413240"/>
                <a:gridCol w="4730760"/>
              </a:tblGrid>
              <a:tr h="14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nafugata Weinbe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teller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ktive Rebfläche insges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 Hek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ei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ßweinreben - autochth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e K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önigin der aromatischen Traubensorten Siziliens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scato d’Alessandria, auch Zibibbo genan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aesaggio_Frigerio_LR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4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auf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Pantelle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C12_Mani01_Shobha_LR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46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5715000"/>
            <a:ext cx="83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Der Produktionsverlauf des Ben Ry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Donnafugatas naturs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üßer We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öchstqualität auf Donnafuga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77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en Ryé </a:t>
            </a:r>
            <a:r>
              <a:rPr b="1" lang="de-DE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st die Summe eines einzigartigen pedoklimatischen Systems, mühevoller, aufmerksamer, geduldiger Menschenarbeit und einer beschränkten Dosis Technologie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e Ernte der Zibibbo-Trauben zum Antrocknen beginnt nach dem 15.  Augu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e Trauben werden für 3-4 Wochen auf Gittern  durch Sonne und Wind natürlich angetrocknet, wobei sich durch den Wasserverlust Zucker und Aromen in den Beeren konzentrieren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m September wird nach einer zweiten Ernte aus frisch gelesenen, leicht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ahoma"/>
              </a:rPr>
              <a:t>überreifen Trauben Most gepresst, dem w</a:t>
            </a:r>
            <a:r>
              <a:rPr b="1" lang="de-DE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ährend der Fermentation in verschiedenen Durchg</a:t>
            </a:r>
            <a:r>
              <a:rPr b="1" lang="de-DE" sz="2000" spc="-1" strike="noStrike">
                <a:solidFill>
                  <a:srgbClr val="ffffff"/>
                </a:solidFill>
                <a:latin typeface="Arial Unicode MS"/>
                <a:ea typeface="Tahoma"/>
              </a:rPr>
              <a:t>ängen die handverlesenen rosinierten Beeren beigefügt werden.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C05_Vendemmiator_Shobha_LRS" descr=""/>
          <p:cNvPicPr/>
          <p:nvPr/>
        </p:nvPicPr>
        <p:blipFill>
          <a:blip r:embed="rId1"/>
          <a:stretch/>
        </p:blipFill>
        <p:spPr>
          <a:xfrm>
            <a:off x="0" y="1066680"/>
            <a:ext cx="2971800" cy="1866960"/>
          </a:xfrm>
          <a:prstGeom prst="rect">
            <a:avLst/>
          </a:prstGeom>
          <a:ln w="0">
            <a:noFill/>
          </a:ln>
        </p:spPr>
      </p:pic>
      <p:pic>
        <p:nvPicPr>
          <p:cNvPr id="125" name="C07_Tunnel_Frigerio_LRS" descr=""/>
          <p:cNvPicPr/>
          <p:nvPr/>
        </p:nvPicPr>
        <p:blipFill>
          <a:blip r:embed="rId2"/>
          <a:stretch/>
        </p:blipFill>
        <p:spPr>
          <a:xfrm>
            <a:off x="0" y="2971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C14_UvaPassa_Shobha_LRS" descr=""/>
          <p:cNvPicPr/>
          <p:nvPr/>
        </p:nvPicPr>
        <p:blipFill>
          <a:blip r:embed="rId3"/>
          <a:stretch/>
        </p:blipFill>
        <p:spPr>
          <a:xfrm>
            <a:off x="0" y="4994280"/>
            <a:ext cx="2971800" cy="186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Donnafugatas Ziel ist die Zufriedenheit der Kund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342900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Donnafugata Weine m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öchten als Begleitung f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ahoma"/>
              </a:rPr>
              <a:t>ür gesellige Gelegenheiten in Erinnerung bleiben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as historische Weingut der Familie</a:t>
            </a:r>
            <a:br>
              <a:rPr sz="4000"/>
            </a:b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arsal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azzaleMarsalaPiccola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5867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nnafugatas antike Ke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onnafugatas historische Kell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Die aus den Weinlagen in Contessa Entellina und Pantelleria produzierten Weine werden zur Lagerung und Abf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üllung 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in die antike Kellerei der Familie nach Marsala transportier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Tahom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Tahoma"/>
              </a:rPr>
              <a:t>Die 1851 errichteten historischen Keller sind Donnafugatas strategisches Zentrum und Herzst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ück.</a:t>
            </a:r>
            <a:r>
              <a:rPr b="1" lang="it-IT" sz="26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D01_Cantine_Favara_LRS" descr="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35" name="D05_Tancredi_Curatolo_LRS" descr=""/>
          <p:cNvPicPr/>
          <p:nvPr/>
        </p:nvPicPr>
        <p:blipFill>
          <a:blip r:embed="rId2"/>
          <a:stretch/>
        </p:blipFill>
        <p:spPr>
          <a:xfrm>
            <a:off x="0" y="3990960"/>
            <a:ext cx="388620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nnafugata und Jaz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Gr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ßartige Musik ist auf Donnafugata zu Hause.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at Metheny und Charlie Haden sind nur zwei der gr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ßen Künstler, die in den historischen Familienkellern aufgetreten si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Donnafugata Music&amp;Wine Session ist ein komplexes gastro-musikalisches Arrangement, in denen von José Rallo und ihrer Gruppe gespielte brasilianische Kl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änge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mit den tausend T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önen der Donnafugata Weine harmonisch zusammentreff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FotoMetheny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138" name="A0_Jose_LRS" descr=""/>
          <p:cNvPicPr/>
          <p:nvPr/>
        </p:nvPicPr>
        <p:blipFill>
          <a:blip r:embed="rId2"/>
          <a:stretch/>
        </p:blipFill>
        <p:spPr>
          <a:xfrm>
            <a:off x="4724280" y="6480"/>
            <a:ext cx="4419720" cy="311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14800" y="1752480"/>
            <a:ext cx="50292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Donnafugata bedeutet auf italienisch “fliehende Frau” und bezieht sich auf die habsburgische K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nigin Maria Carolina, die im späten 19. Jahrhundert nach ihrer Flucht aus Neapel Zuflucht 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 im Herzen des Belice-Tals auf Sizilien fand, in den L</a:t>
            </a: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ändereien, die später Donnafugata genannt wur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Unser Logo und der Name unseres Weinguts erinnern an dieses Ereign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donnafugatavett" descr=""/>
          <p:cNvPicPr/>
          <p:nvPr/>
        </p:nvPicPr>
        <p:blipFill>
          <a:blip r:embed="rId1"/>
          <a:stretch/>
        </p:blipFill>
        <p:spPr>
          <a:xfrm>
            <a:off x="5181480" y="0"/>
            <a:ext cx="2819520" cy="18511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86" name="SMBelice_palazzo_FCuto" descr=""/>
          <p:cNvPicPr/>
          <p:nvPr/>
        </p:nvPicPr>
        <p:blipFill>
          <a:blip r:embed="rId2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46483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  <a:ea typeface="Tahoma"/>
              </a:rPr>
              <a:t>Und für die Zukunft? Ferdinando und Gabriella, die Jüngsten, findet man bereits in “full immersion” inmitten des Familienbetrie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572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Donnafugata f</a:t>
            </a:r>
            <a:r>
              <a:rPr b="0" lang="it-IT" sz="4400" spc="-1" strike="noStrike">
                <a:solidFill>
                  <a:srgbClr val="ffffff"/>
                </a:solidFill>
                <a:latin typeface="Tahoma"/>
                <a:ea typeface="Tahoma"/>
              </a:rPr>
              <a:t>ür die Zukun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IMG%20-%20bimbi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85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Eine Familie, eine Tradi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famiglia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191120" cy="3133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4495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onnafugata wurde in Sizilien von einer Familie ge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ündet, die über 150 Jahre Erfahrung mit Qualitätswein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verf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ügt.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e Famile Rallo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von 1851 bis he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46080" y="1320840"/>
          <a:ext cx="72453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320840"/>
                    <a:ext cx="72453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962160" y="32004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pä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Donnafugata Weinberge und Kellerei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 Unicode MS"/>
              </a:rPr>
              <a:t>Contessa Entell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095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Unicode MS"/>
              </a:rPr>
              <a:t>Die D.O.C. Contessa Entellina wurde 1994 verlie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DSC_fotovoltaicobis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3505320"/>
          <a:ext cx="9144000" cy="3173400"/>
        </p:xfrm>
        <a:graphic>
          <a:graphicData uri="http://schemas.openxmlformats.org/drawingml/2006/table">
            <a:tbl>
              <a:tblPr/>
              <a:tblGrid>
                <a:gridCol w="4267080"/>
                <a:gridCol w="4876920"/>
              </a:tblGrid>
              <a:tr h="934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Donnafugat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Contessa Entellina Weinberg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Produktive Rebfläche insgesamt</a:t>
                      </a:r>
                      <a:r>
                        <a:rPr b="1" i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260 Hek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Weißweinreben</a:t>
                      </a: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- autochthone und allochthon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Ansonica, Catarratto, Grecanico, Chardonnay, Sauvignon Blan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Rotweinreben - autochthone und allochthon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Nero d’Avola, Perricone, Cabernet Sauvignon, Merlot, Syra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B03_Casale_Frigerio_HRc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Donnafugat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Unicode MS"/>
              </a:rPr>
              <a:t>Die Nachtles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B12_VendNott06_HRbook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069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öchstqualität i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tessa Entel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7636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 Unicode MS"/>
                <a:ea typeface="Times New Roman"/>
              </a:rPr>
              <a:t>1. Nächtliche Lese schützt das organoleptische Potential der weißenTraub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nfang August erreichen die Chardonnay-Trauben als erste Rebsorte in Sizilien Vollreif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 Unicode MS"/>
                <a:ea typeface="Times New Roman"/>
              </a:rPr>
              <a:t>Die Tagestemperaturen liegen häufig über 35°C,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und die Risiken betreffend unerwünschter Gärprozesse während des Transports vom Weinberg in die Kellerei sind beachtlic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 Unicode MS"/>
                <a:ea typeface="Times New Roman"/>
              </a:rPr>
              <a:t>Nachts sinken dagegen die Temperaturen auf 16 - 18°C</a:t>
            </a:r>
            <a:r>
              <a:rPr b="1" lang="en-US" sz="2000" spc="-1" strike="noStrike">
                <a:solidFill>
                  <a:srgbClr val="993300"/>
                </a:solidFill>
                <a:latin typeface="Arial Unicode MS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dealbedingungen, um Trauben mit unversehrtem organoleptischen Potential in den Keller zu liefer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 Unicode MS"/>
                <a:ea typeface="Times New Roman"/>
              </a:rPr>
              <a:t>2. Die Nachtlese spart Energie für die Abkühlung der Trauben vor der Pressung von 70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B07_VendNott02_Lazzari_LRS" descr=""/>
          <p:cNvPicPr/>
          <p:nvPr/>
        </p:nvPicPr>
        <p:blipFill>
          <a:blip r:embed="rId1"/>
          <a:stretch/>
        </p:blipFill>
        <p:spPr>
          <a:xfrm>
            <a:off x="0" y="2209680"/>
            <a:ext cx="312408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B08_VendNott03_Linares_LRS" descr=""/>
          <p:cNvPicPr/>
          <p:nvPr/>
        </p:nvPicPr>
        <p:blipFill>
          <a:blip r:embed="rId2"/>
          <a:stretch/>
        </p:blipFill>
        <p:spPr>
          <a:xfrm>
            <a:off x="0" y="4626000"/>
            <a:ext cx="312408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B14_Chardonnay02_Modica_LRS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5562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Unicode MS"/>
              </a:rPr>
              <a:t>H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öchstqualität konzentriert sich auch auf autochthone Rebsorten wie z.B. 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</a:rPr>
              <a:t>Nero d’Avola, eine der repr</a:t>
            </a:r>
            <a:r>
              <a:rPr b="0" lang="it-IT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äsentativsten Rotweinsorten Sizili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A03_Ferdinando_Pomara_LRS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a</cp:lastModifiedBy>
  <dcterms:modified xsi:type="dcterms:W3CDTF">2005-04-29T10:32:27Z</dcterms:modified>
  <cp:revision>214</cp:revision>
  <dc:subject/>
  <dc:title>Presentazione di PowerPoint</dc:title>
</cp:coreProperties>
</file>