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CAC-B574-44C4-A1A4-AEC58936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34A-B68F-46CF-9BC2-C1343515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22-8E61-42C4-A44D-84870BDA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665-80E7-4E0B-A7B2-F1983240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442E-E492-41F8-A248-C3EDA8A8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645B-9E31-4B17-97BC-2D650FE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1A3-2EA7-48B5-84B7-3C92E3B6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AF6-148A-45BA-BE2D-77CB3E88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A252-9ECA-4F47-BB06-AA89081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F86-F5F8-4FC4-B1EA-96EF2C3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0E63-C145-4024-AAB0-73B5A6C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001-5BE1-4F04-BDD0-5D921352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5A37-4B28-42FE-A3C0-9E1B578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A4E3-F3B9-4AD4-BBBF-82A9EB8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355-9B70-4D39-B674-163E5CD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B3A6-389C-42DB-B1BD-53FAEB5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80E-C2CB-42C7-9FFC-E3855C1D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F7E-C9D9-4292-9604-F4DA001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3B4-A23F-4AFD-A321-8C922A3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805-33D1-45A0-A7C9-3AB6A938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606-00A5-4DE5-BCB0-738C94C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9F8-6499-428F-9D10-9F0881F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C24-D07B-49F3-BF17-7B61DFA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12A-F967-4419-A5A1-EC7AAED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91A-F03C-4B9C-A8C7-67E81E7593D8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271560"/>
            <a:ext cx="2895840" cy="5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8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58ED-A0E9-4BFC-B9EC-754C59C1EB90}" type="slidenum">
              <a:rPr b="1" lang="it-IT" sz="2800" spc="-1" strike="noStrike">
                <a:solidFill>
                  <a:srgbClr val="ff9900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BC2F-9F3B-4C27-9A35-C02FC39A7EEC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411600"/>
            <a:ext cx="289584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C16-F22D-4024-B7EC-2329AC0CD3E4}" type="slidenum">
              <a:rPr b="1" lang="it-IT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pertina%20eng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1339920"/>
            <a:ext cx="5333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969696"/>
                </a:solidFill>
                <a:latin typeface="Arial Narrow"/>
              </a:rPr>
              <a:t>Produktion von Qualit</a:t>
            </a:r>
            <a:r>
              <a:rPr b="1" lang="it-IT" sz="1100" spc="-1" strike="noStrike">
                <a:solidFill>
                  <a:srgbClr val="969696"/>
                </a:solidFill>
                <a:latin typeface="Arial Narrow"/>
                <a:ea typeface="Times New Roman"/>
              </a:rPr>
              <a:t>ätsweinen im Respekt der Umwelt, mit der Aufwertung des Territorium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 auch…..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Umweltschut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uf Donnafugata erachtet man die Qualität der Umwelt als einen Produktionsfaktor mit demselben Stellenwert wie viele andere: Boden, Klima, Rebsorte, Anbautechniken</a:t>
            </a: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Tahoma"/>
              </a:rPr>
              <a:t>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…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Saubere Energ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onnafugata </a:t>
            </a: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war eines der ersten Weingüter Italiens, auf dem Fotoelektrizität zur Energiegewinnung eingesetzt und die Sonneneinstrahlung als saubere und erneuerbare Quelle genutzt wurd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installierten Solarkollektoren (18 kW) decken mehr als 30% des Energiebedarfs der Kellerei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…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und die Kunden geben ihr Geld lieber aus, wenn das Unternehmen ihre Werte teilt 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annelliFotovoltaici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Donnafugata Weinberge und Kellerei</a:t>
            </a:r>
            <a:br>
              <a:rPr sz="36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Arial"/>
              </a:rPr>
              <a:t>Pantelleri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Arial"/>
              </a:rPr>
              <a:t>Insel der Sonne und des Windes zwischen Sizilien und Af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03_JoseGabri_Shobha_LR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3733920"/>
          <a:ext cx="9144000" cy="3124080"/>
        </p:xfrm>
        <a:graphic>
          <a:graphicData uri="http://schemas.openxmlformats.org/drawingml/2006/table">
            <a:tbl>
              <a:tblPr/>
              <a:tblGrid>
                <a:gridCol w="4413240"/>
                <a:gridCol w="4730760"/>
              </a:tblGrid>
              <a:tr h="14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nafugata Weinbe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teller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ktive Rebfläche insges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 Hek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ei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ßweinreben - autochth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e K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nigin der aromatischen Traubensorten Siziliens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scato d’Alessandria, auch Zibibbo genan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aesaggio_Frigerio_L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auf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Pantell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C12_Mani01_Shobha_LR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4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71500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er Produktionsverlauf des Ben Ry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s naturs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ßer We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öchstqualität auf Donnafuga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77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n Ryé 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st die Summe eines einzigartigen pedoklimatischen Systems, mühevoller, aufmerksamer, geduldiger Menschenarbeit und einer beschränkten Dosis Technologie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Ernte der Zibibbo-Trauben zum Antrocknen beginnt nach dem 15.  Augu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Trauben werden für 3-4 Wochen auf Gittern  durch Sonne und Wind natürlich angetrocknet, wobei sich durch den Wasserverlust Zucker und Aromen in den Beeren konzentrieren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 September wird nach einer zweiten Ernte aus frisch gelesenen, leicht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überreifen Trauben Most gepresst, dem w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hrend der Fermentation in verschiedenen Durchg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ängen die handverlesenen rosinierten Beeren beigefügt werden.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05_Vendemmiator_Shobha_LRS" descr=""/>
          <p:cNvPicPr/>
          <p:nvPr/>
        </p:nvPicPr>
        <p:blipFill>
          <a:blip r:embed="rId1"/>
          <a:stretch/>
        </p:blipFill>
        <p:spPr>
          <a:xfrm>
            <a:off x="0" y="1066680"/>
            <a:ext cx="297180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C07_Tunnel_Frigerio_LRS" descr=""/>
          <p:cNvPicPr/>
          <p:nvPr/>
        </p:nvPicPr>
        <p:blipFill>
          <a:blip r:embed="rId2"/>
          <a:stretch/>
        </p:blipFill>
        <p:spPr>
          <a:xfrm>
            <a:off x="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C14_UvaPassa_Shobha_LRS" descr=""/>
          <p:cNvPicPr/>
          <p:nvPr/>
        </p:nvPicPr>
        <p:blipFill>
          <a:blip r:embed="rId3"/>
          <a:stretch/>
        </p:blipFill>
        <p:spPr>
          <a:xfrm>
            <a:off x="0" y="4994280"/>
            <a:ext cx="2971800" cy="186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s Ziel ist die Zufriedenheit der Kund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34290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 Weine m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öchten als Begleitung f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ahoma"/>
              </a:rPr>
              <a:t>ür gesellige Gelegenheiten in Erinnerung bleiben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s historische Weingut der Familie</a:t>
            </a:r>
            <a:br>
              <a:rPr sz="40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rsal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azzaleMarsalaPiccola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5867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antike Ke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historische Kell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Die aus den Weinlagen in Contessa Entellina und Pantelleria produzierten Weine werden zur Lagerung und Abf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llung 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in die antike Kellerei der Familie nach Marsala transportier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1851 errichteten historischen Keller sind Donnafugatas strategisches Zentrum und Herzst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ck.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D01_Cantine_Favara_LRS" descr="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D05_Tancredi_Curatolo_LRS" descr=""/>
          <p:cNvPicPr/>
          <p:nvPr/>
        </p:nvPicPr>
        <p:blipFill>
          <a:blip r:embed="rId2"/>
          <a:stretch/>
        </p:blipFill>
        <p:spPr>
          <a:xfrm>
            <a:off x="0" y="3990960"/>
            <a:ext cx="388620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und Jaz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artige Musik ist auf Donnafugata zu Hause.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t Metheny und Charlie Haden sind nur zwei der 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en Künstler, die in den historischen Familienkellern aufgetreten si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Music&amp;Wine Session ist ein komplexes gastro-musikalisches Arrangement, in denen von José Rallo und ihrer Gruppe gespielte brasilianische K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äng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mit den tausend T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önen der Donnafugata Weine harmonisch zusammentreff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FotoMetheny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A0_Jose_LRS" descr=""/>
          <p:cNvPicPr/>
          <p:nvPr/>
        </p:nvPicPr>
        <p:blipFill>
          <a:blip r:embed="rId2"/>
          <a:stretch/>
        </p:blipFill>
        <p:spPr>
          <a:xfrm>
            <a:off x="4724280" y="6480"/>
            <a:ext cx="4419720" cy="311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14800" y="1752480"/>
            <a:ext cx="5029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onnafugata bedeutet auf italienisch “fliehende Frau” und bezieht sich auf die habsburgische K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nigin Maria Carolina, die im späten 19. Jahrhundert nach ihrer Flucht aus Neapel Zuflucht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 im Herzen des Belice-Tals auf Sizilien fand, in den L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ndereien, die später Donnafugata genannt wur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Unser Logo und der Name unseres Weinguts erinnern an dieses Ereign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donnafugatavett" descr=""/>
          <p:cNvPicPr/>
          <p:nvPr/>
        </p:nvPicPr>
        <p:blipFill>
          <a:blip r:embed="rId1"/>
          <a:stretch/>
        </p:blipFill>
        <p:spPr>
          <a:xfrm>
            <a:off x="5181480" y="0"/>
            <a:ext cx="2819520" cy="1851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86" name="SMBelice_palazzo_FCuto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46483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  <a:ea typeface="Tahoma"/>
              </a:rPr>
              <a:t>Und für die Zukunft? Ferdinando und Gabriella, die Jüngsten, findet man bereits in “full immersion” inmitten des Familienbetrie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Donnafugata f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  <a:ea typeface="Tahoma"/>
              </a:rPr>
              <a:t>ür die Zukun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IMG%20-%20bimbi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Eine Familie, eine Tradi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famiglia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91120" cy="313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4495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onnafugata wurde in Sizilien von einer Familie ge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ündet, die über 150 Jahre Erfahrung mit Qualitätswein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verf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ügt.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e Famile Rall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on 1851 bis he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46080" y="1320840"/>
          <a:ext cx="72453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320840"/>
                    <a:ext cx="72453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62160" y="32004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pä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 Weinberge und Kellerei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Contessa Entell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ie D.O.C. Contessa Entellina wurde 1994 verlie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DSC_fotovoltaicobis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3505320"/>
          <a:ext cx="9144000" cy="3173400"/>
        </p:xfrm>
        <a:graphic>
          <a:graphicData uri="http://schemas.openxmlformats.org/drawingml/2006/table">
            <a:tbl>
              <a:tblPr/>
              <a:tblGrid>
                <a:gridCol w="4267080"/>
                <a:gridCol w="4876920"/>
              </a:tblGrid>
              <a:tr h="934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Donnafuga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ontessa Entellina Weinberg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Produktive Rebfläche insgesamt</a:t>
                      </a:r>
                      <a:r>
                        <a:rPr b="1" i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260 Hek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Weißweinreben</a:t>
                      </a: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Ansonica, Catarratto, Grecanico, Chardonnay, Sauvignon Blan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Rotweinreben 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Nero d’Avola, Perricone, Cabernet Sauvignon, Merlot, Syra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B03_Casale_Frigerio_HR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onnafugat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ie Nachtle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B12_VendNott06_HRbook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069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öchstqualität i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tessa Entel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76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1. Nächtliche Lese schützt das organoleptische Potential der weißenTraub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fang August erreichen die Chardonnay-Trauben als erste Rebsorte in Sizilien Vollreif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Die Tagestemperaturen liegen häufig über 35°C,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und die Risiken betreffend unerwünschter Gärprozesse während des Transports vom Weinberg in die Kellerei sind beachtli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Nachts sinken dagegen die Temperaturen auf 16 - 18°C</a:t>
            </a: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dealbedingungen, um Trauben mit unversehrtem organoleptischen Potential in den Keller zu liefer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2. Die Nachtlese spart Energie für die Abkühlung der Trauben vor der Pressung von 70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B07_VendNott02_Lazzari_LRS" descr=""/>
          <p:cNvPicPr/>
          <p:nvPr/>
        </p:nvPicPr>
        <p:blipFill>
          <a:blip r:embed="rId1"/>
          <a:stretch/>
        </p:blipFill>
        <p:spPr>
          <a:xfrm>
            <a:off x="0" y="220968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B08_VendNott03_Linares_LRS" descr=""/>
          <p:cNvPicPr/>
          <p:nvPr/>
        </p:nvPicPr>
        <p:blipFill>
          <a:blip r:embed="rId2"/>
          <a:stretch/>
        </p:blipFill>
        <p:spPr>
          <a:xfrm>
            <a:off x="0" y="462600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B14_Chardonnay02_Modica_LRS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5562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konzentriert sich auch auf autochthone Rebsorten wie z.B. 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Nero d’Avola, eine der repr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sentativsten Rotweinsorten Sizili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A03_Ferdinando_Pomara_LRS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a</cp:lastModifiedBy>
  <dcterms:modified xsi:type="dcterms:W3CDTF">2005-04-29T10:32:27Z</dcterms:modified>
  <cp:revision>214</cp:revision>
  <dc:subject/>
  <dc:title>Presentazione di PowerPoint</dc:title>
</cp:coreProperties>
</file>